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wmf" ContentType="image/x-wmf"/>
  <Override PartName="/ppt/media/image33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21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0.png" ContentType="image/png"/>
  <Override PartName="/ppt/media/image66.png" ContentType="image/png"/>
  <Override PartName="/ppt/media/image67.png" ContentType="image/png"/>
  <Override PartName="/ppt/media/image28.wmf" ContentType="image/x-wmf"/>
  <Override PartName="/ppt/media/image68.png" ContentType="image/png"/>
  <Override PartName="/ppt/media/image29.wmf" ContentType="image/x-wmf"/>
  <Override PartName="/ppt/media/image31.png" ContentType="image/png"/>
  <Override PartName="/ppt/media/image89.png" ContentType="image/png"/>
  <Override PartName="/ppt/media/image76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88.png" ContentType="image/png"/>
  <Override PartName="/ppt/media/image20.png" ContentType="image/png"/>
  <Override PartName="/ppt/media/image57.png" ContentType="image/png"/>
  <Override PartName="/ppt/media/image75.wmf" ContentType="image/x-wmf"/>
  <Override PartName="/ppt/media/image87.png" ContentType="image/png"/>
  <Override PartName="/ppt/media/image65.png" ContentType="image/png"/>
  <Override PartName="/ppt/media/image85.wmf" ContentType="image/x-wmf"/>
  <Override PartName="/ppt/media/image74.png" ContentType="image/png"/>
  <Override PartName="/ppt/media/image64.png" ContentType="image/png"/>
  <Override PartName="/ppt/media/image84.wmf" ContentType="image/x-wmf"/>
  <Override PartName="/ppt/media/image63.png" ContentType="image/png"/>
  <Override PartName="/ppt/media/image83.wmf" ContentType="image/x-wmf"/>
  <Override PartName="/ppt/media/image72.png" ContentType="image/png"/>
  <Override PartName="/ppt/media/image62.png" ContentType="image/png"/>
  <Override PartName="/ppt/media/image82.wmf" ContentType="image/x-wmf"/>
  <Override PartName="/ppt/media/image77.wmf" ContentType="image/x-wmf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79.wmf" ContentType="image/x-wmf"/>
  <Override PartName="/ppt/media/image11.png" ContentType="image/png"/>
  <Override PartName="/ppt/media/image70.wmf" ContentType="image/x-wmf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7497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6002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7497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7497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7497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1371600"/>
            <a:ext cx="8001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62640" y="6127920"/>
            <a:ext cx="14007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BCDB-18E3-4945-B486-BCB899717F3E}" type="slidenum"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1280" y="6165720"/>
            <a:ext cx="1118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2006.3.3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高橋 行雄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による各種の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データの解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橋 行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考え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4097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渦巻きの中でランダム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857400" cy="390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2762280" cy="173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905280" cy="3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62720" y="2286000"/>
            <a:ext cx="3171600" cy="28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191120" y="2362320"/>
            <a:ext cx="961920" cy="2400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81280" y="2057400"/>
            <a:ext cx="5257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9000"/>
          </a:bodyPr>
          <a:p>
            <a:pPr marL="99360" indent="-99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全体でランダム化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内でランダム化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1220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19360" y="3514680"/>
            <a:ext cx="6019560" cy="262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1280" y="2637000"/>
            <a:ext cx="79912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886800" cy="257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534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方分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5327640" cy="303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8208720" cy="164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16360" y="3645000"/>
            <a:ext cx="2895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5591160" cy="81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15080" cy="1733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83059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164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解析してみよ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の形式                                  解析用データセッ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48000" cy="17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40320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96072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モデルのあては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02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変量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も変量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B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*B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プーリング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伝統的に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固定効果のままとして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を属性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中から変量効果に属性を変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析方法を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L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から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従来） に変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600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4941720"/>
            <a:ext cx="8001000" cy="7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単位の因子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*A&amp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変量効果で検定されて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832720" cy="126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488360" cy="1779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376200">
            <a:off x="4642920" y="3933360"/>
            <a:ext cx="287640" cy="211320"/>
          </a:xfrm>
          <a:custGeom>
            <a:avLst/>
            <a:gdLst/>
            <a:ahLst/>
            <a:rect l="l" t="t" r="r" b="b"/>
            <a:pathLst>
              <a:path w="212" h="196">
                <a:moveTo>
                  <a:pt x="46" y="196"/>
                </a:moveTo>
                <a:cubicBezTo>
                  <a:pt x="102" y="165"/>
                  <a:pt x="159" y="135"/>
                  <a:pt x="182" y="105"/>
                </a:cubicBezTo>
                <a:cubicBezTo>
                  <a:pt x="205" y="75"/>
                  <a:pt x="212" y="30"/>
                  <a:pt x="182" y="15"/>
                </a:cubicBezTo>
                <a:cubicBezTo>
                  <a:pt x="152" y="0"/>
                  <a:pt x="30" y="15"/>
                  <a:pt x="0" y="1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376200">
            <a:off x="4646520" y="3706920"/>
            <a:ext cx="492120" cy="433440"/>
          </a:xfrm>
          <a:custGeom>
            <a:avLst/>
            <a:gdLst/>
            <a:ahLst/>
            <a:rect l="l" t="t" r="r" b="b"/>
            <a:pathLst>
              <a:path w="212" h="196">
                <a:moveTo>
                  <a:pt x="46" y="196"/>
                </a:moveTo>
                <a:cubicBezTo>
                  <a:pt x="102" y="165"/>
                  <a:pt x="159" y="135"/>
                  <a:pt x="182" y="105"/>
                </a:cubicBezTo>
                <a:cubicBezTo>
                  <a:pt x="205" y="75"/>
                  <a:pt x="212" y="30"/>
                  <a:pt x="182" y="15"/>
                </a:cubicBezTo>
                <a:cubicBezTo>
                  <a:pt x="152" y="0"/>
                  <a:pt x="30" y="15"/>
                  <a:pt x="0" y="15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分割実験の考え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の対応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分割実験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測値がある分割実験の例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4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さらなる分割実験の活用に向け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ＭＳ Ｐゴシック"/>
              </a:rPr>
              <a:t>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r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要因配置での分割，直交表での分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の期待値の構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480000" cy="2725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93080" y="2276640"/>
            <a:ext cx="1800000" cy="127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6804000" y="2923920"/>
            <a:ext cx="289080" cy="144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804000" y="3212640"/>
            <a:ext cx="28908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804000" y="3429000"/>
            <a:ext cx="289080" cy="71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4360" y="3645000"/>
            <a:ext cx="1285920" cy="84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04000" y="3716280"/>
            <a:ext cx="36036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933720"/>
            <a:ext cx="360360" cy="7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4365720"/>
            <a:ext cx="4321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581280"/>
            <a:ext cx="8381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971800"/>
            <a:ext cx="6400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交互作用プロファイ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295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5257800" cy="46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952720" cy="204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3962520"/>
            <a:ext cx="2210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次因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軸にした交互作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4149720"/>
            <a:ext cx="3961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個別の交互作用プロット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軸になるの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*A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ように後の因子である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*B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した場合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軸とな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, A2, A3, A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抽出率が向上，特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3B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が特に抽出率が良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156200" cy="453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527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準間の差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出温度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，添加剤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組み合わせが最も抽出率 ｙ が高いことが交互作用プロファイルから読み取れ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添加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およ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か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範囲では，抽出率 ｙ のピークはなく，抽出温度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の場合にピークがありそうであ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どの添加剤を選択したらよいのだろう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準間の差の推定をした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288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の差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を参考にしつつ，添加剤のコストなどを加味して実験結果を活用した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の母平均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も合わせてレポートに示した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600200"/>
            <a:ext cx="4156200" cy="4537080"/>
            <a:chOff x="609480" y="1600200"/>
            <a:chExt cx="4156200" cy="4537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415620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200400" y="2743200"/>
              <a:ext cx="1295280" cy="380880"/>
            </a:xfrm>
            <a:custGeom>
              <a:avLst/>
              <a:gdLst/>
              <a:ahLst/>
              <a:rect l="l" t="t" r="r" b="b"/>
              <a:pathLst>
                <a:path w="816" h="240">
                  <a:moveTo>
                    <a:pt x="0" y="0"/>
                  </a:moveTo>
                  <a:cubicBezTo>
                    <a:pt x="272" y="8"/>
                    <a:pt x="544" y="16"/>
                    <a:pt x="672" y="48"/>
                  </a:cubicBezTo>
                  <a:cubicBezTo>
                    <a:pt x="800" y="80"/>
                    <a:pt x="816" y="160"/>
                    <a:pt x="768" y="192"/>
                  </a:cubicBezTo>
                  <a:cubicBezTo>
                    <a:pt x="720" y="224"/>
                    <a:pt x="448" y="232"/>
                    <a:pt x="384" y="24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楠本で母平均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1725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852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1800" y="373392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28600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推定の考え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748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3933720"/>
            <a:ext cx="122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589720"/>
            <a:ext cx="1942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頼区間の計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818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計算）で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5562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89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，楠本と異なる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頼区間も結果として異なる．計算オプション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誤差のみを使っているため，正しい結果が得られな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248520" cy="218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895480" cy="32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5943600" cy="947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219320" y="5029200"/>
            <a:ext cx="5943600" cy="40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39720" y="3002040"/>
            <a:ext cx="5791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526160" y="2738520"/>
            <a:ext cx="11322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96960" y="5257440"/>
            <a:ext cx="74772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楠本では，反復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も変量効果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信頼区間は，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5.3, 31.7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であり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を固定効果としたので，比べ若干小さくなっていい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による計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63840" y="1440000"/>
            <a:ext cx="5324400" cy="1685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469880" y="3156120"/>
            <a:ext cx="5635800" cy="1955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94680" y="4262400"/>
            <a:ext cx="1131840" cy="306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53040" y="4468680"/>
            <a:ext cx="191592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30320" y="4483080"/>
            <a:ext cx="62388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考え方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対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7280" y="4257720"/>
            <a:ext cx="8640720" cy="238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7280" y="1413000"/>
            <a:ext cx="8675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成分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80" y="1592280"/>
            <a:ext cx="8820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平均と差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信頼区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単位内は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誤差で検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752480"/>
            <a:ext cx="7848360" cy="1523880"/>
            <a:chOff x="685800" y="1752480"/>
            <a:chExt cx="7848360" cy="15238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685800" y="1825560"/>
              <a:ext cx="576072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6662520" y="1752480"/>
              <a:ext cx="1871640" cy="15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5800" y="4191120"/>
            <a:ext cx="7891200" cy="1770120"/>
            <a:chOff x="685800" y="4191120"/>
            <a:chExt cx="7891200" cy="1770120"/>
          </a:xfrm>
        </p:grpSpPr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685800" y="4191120"/>
              <a:ext cx="58323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4400280" y="4335480"/>
              <a:ext cx="4176720" cy="162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457200" y="38098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単位間は，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誤差と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次誤差を合成 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B*A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での実行結果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と（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の差の推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4475160"/>
            <a:ext cx="800100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09680" y="1447920"/>
            <a:ext cx="6837480" cy="2201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429000" y="3657600"/>
            <a:ext cx="3638520" cy="3002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104920" y="3657600"/>
            <a:ext cx="131616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638680" y="4267080"/>
            <a:ext cx="99072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水準間の比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572000" cy="235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60840" cy="4572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1480" y="38862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411480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差の推定値のリスト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419076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581280" cy="2197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315200" cy="250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6680" y="5715000"/>
            <a:ext cx="6477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なるオプションによる差の推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96080" cy="1855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比による差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5013000"/>
            <a:ext cx="507672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対比を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＋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「－」をクリックして構成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45752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477960" cy="4343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08720" y="4005360"/>
            <a:ext cx="1763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4797360"/>
            <a:ext cx="17636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比を用いた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2894040" cy="5334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3173400" cy="396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48360" y="5121360"/>
            <a:ext cx="187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48360" y="5337000"/>
            <a:ext cx="1871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6720" y="3824280"/>
            <a:ext cx="1944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4689360"/>
            <a:ext cx="1944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219640" cy="4276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変量効果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32360" y="1449000"/>
            <a:ext cx="4572000" cy="514836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&lt;&lt;&lt;  JMP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スクリプト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it Model(Y( :y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ffects( :R &amp; Random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A,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R *  :A &amp; Random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B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B *  :A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ersonality(Standard LeastSquares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ethod(REML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hasis(Minimal Report)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un Model( :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&lt; {Analysis of Variance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ack of Fit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Actual by Predicted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Regression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Residual by Predicted(0)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ot Effect Leverage(0)})) 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のランダム化が制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割実験モデルとな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データが綺麗に揃っている場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散分析表の手作業での組み替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データが不揃いの場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の 「モデルのあてはめ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データが不揃いな分割実験・枝分かれ実験の解析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前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プロシジャで解析が可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のマニュアルは“変量効果”を知っている人向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を変量効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871960" cy="200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391520" y="2819520"/>
            <a:ext cx="1131840" cy="3063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3886200"/>
            <a:ext cx="5410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反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も変量効果としたので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頼区間は，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.3, 31.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と楠本と一致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5486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も変量とした分散成分の推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001000" cy="36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法（期待平均平方）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743280" cy="17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35640" y="2565360"/>
            <a:ext cx="3924000" cy="1741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440" y="3293640"/>
            <a:ext cx="28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00360" y="4689360"/>
            <a:ext cx="57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どちらの方法でも分散成分の推定値は同じである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欠測値がある分割実験の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投与と食後投与の違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3640" y="4905000"/>
            <a:ext cx="8577000" cy="14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投与量ごと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，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，同一症例に食前投与と食後投与をクロスオーバー法で割りつける．主要変数は薬物濃度曲線下面積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．被験者が変量効果．計画はバランスしているが，欠測値がしばしば発生する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900000" y="1592280"/>
            <a:ext cx="1083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実験結果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72360" y="1600200"/>
            <a:ext cx="2520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m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1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誤投与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は，未投与で欠測値が発生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508360" cy="4218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067280" y="4653000"/>
            <a:ext cx="828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5300640"/>
            <a:ext cx="82872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5300640"/>
            <a:ext cx="82872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この実験は枝分か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（期待平均平方）では解析できない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症例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量が交絡している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交表を用いた分割実験でも同様の交絡が生ず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によって解くことができ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析用データセット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50920" y="1413000"/>
            <a:ext cx="7021440" cy="3527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52360" y="5143680"/>
            <a:ext cx="7056720" cy="517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6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モデルの指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55640" y="1844640"/>
            <a:ext cx="5940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856720" cy="1762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S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は解析できな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4581000"/>
            <a:ext cx="800100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920" y="2744640"/>
            <a:ext cx="4752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L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5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1521000"/>
            <a:ext cx="835164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割実験の概念と実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実験計画法の専門の教科書では古くから登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交表を用いた分割実験の解析も良く知られてい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しかし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実際のデータ解析では忘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実用的な統計ソフは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でさ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か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統計手法の誤用の事例の宝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誤用しても気がつかな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誤用を指摘できる人も少な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・後 別の用量反応関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37440" cy="2136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700360" y="3537000"/>
            <a:ext cx="4032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この実験のねらい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前投与に比べて食後投与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が，生物学的に同等であるかを検証するのが主な目的であった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等性の検証は，対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食前・後の差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頼区間が，基準とする食前投与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±0.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にあることで検証す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前・後と投与量間の交互作用がないので，誤差にプーリングする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3303720" cy="3897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対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での解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1640" y="3500280"/>
            <a:ext cx="3887640" cy="26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前投与の対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平均は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であった．生物学的同等性の範囲は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+0.1=1.7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181‐0.1=1.51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と設定され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後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頼区間は，変量効果が加味されている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19280" y="1449360"/>
            <a:ext cx="74898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前・後での差の統計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350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で差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%C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の計算，差の標準誤差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2947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小さくなってい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1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03280" y="1449360"/>
            <a:ext cx="8172360" cy="1847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84360" y="3824280"/>
            <a:ext cx="6119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後投与はやや低め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284720" cy="4221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49200" y="1449360"/>
            <a:ext cx="39355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さらなる分割実験の応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要因配置での分割実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直交表での分割実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理された実験結果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4976280"/>
            <a:ext cx="8001000" cy="73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-757080" y="1989000"/>
            <a:ext cx="11521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変量効果の設定が要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300280"/>
            <a:ext cx="8353440" cy="11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課題１：固定効果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値が劇的に変わることを確認しなさい．課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組み合わせ水準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頼区間を求めなさい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セラミック焼成データの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353120" cy="1847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692360" y="3573360"/>
            <a:ext cx="58690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実験計画表による分割実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焼成温度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焼成機械種類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合量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因子とし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残り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因子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あたり上限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，日をブロック因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慮すべき交互作用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×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×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×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応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強度の指数であ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値は大きいほど好ましい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ようやく普及活動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日は普及活動の初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バージョン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で完成度が高ま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統計家向けで実務者には敷居が高す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は，実務者向け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での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結果のグラフ表示も充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実務者を支援できる人たちの養成が必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1800" cy="5910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11280" y="3068640"/>
            <a:ext cx="80643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0" y="184464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276640"/>
            <a:ext cx="936720" cy="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12000" y="2708280"/>
            <a:ext cx="936720" cy="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12000" y="360828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2000" y="404172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75640" y="4437000"/>
            <a:ext cx="936720" cy="3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4797360"/>
            <a:ext cx="8064360" cy="108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散分析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64000" y="1484280"/>
            <a:ext cx="266364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では，どのようにしたら解析できるのであろう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現行水準と最適水準の母平均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頼区間はどのようにしたら求められるのだろうか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95280" y="1521000"/>
            <a:ext cx="565308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928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は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な実験環境をサポートす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0920" y="3716280"/>
            <a:ext cx="8064360" cy="21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後半は，質疑応答を交えながら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を用いて解析の実際を示します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質問者に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の操作をお願いし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を深めたいと思います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840" y="1716120"/>
            <a:ext cx="8489880" cy="3728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1440" y="230040"/>
            <a:ext cx="3954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変量効果の指定が決め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cf4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数少ない日本語の教科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2492280"/>
            <a:ext cx="3600360" cy="4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科技連出版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889440" cy="669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097440" cy="878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4824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9T04:28:46Z</dcterms:created>
  <dc:creator>臨床開発本部</dc:creator>
  <dc:description/>
  <cp:keywords/>
  <dc:language>en-US</dc:language>
  <cp:lastModifiedBy>Administrator</cp:lastModifiedBy>
  <cp:lastPrinted>2002-08-29T12:23:11Z</cp:lastPrinted>
  <dcterms:modified xsi:type="dcterms:W3CDTF">2006-02-28T04:07:06Z</dcterms:modified>
  <cp:revision>94</cp:revision>
  <dc:subject/>
  <dc:title>薬物濃度を用いた 同等性試験の例数設計</dc:title>
</cp:coreProperties>
</file>